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Click to move the slide</a:t>
            </a: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70DFC-3DFE-41F7-82E3-42B40F062F1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2E38E-C10D-4B4F-BAC6-B935816F59B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1FB5-75A7-4551-9AA0-CA568B584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A7D26-69B6-4F72-B4CC-61F255691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82C4-9E76-4167-BB48-87236D7830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5DF26-9CA8-497F-8CC8-4498A1A6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8A449E-E689-44F4-8832-C05F3A05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75E3C-A75C-49D3-BEAF-7C703ED946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98A79-A0E9-4766-832E-71621F981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CDA20-F8FD-48D0-BBCD-47294679C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97424E-43E9-4ADB-9AA2-349BAC41E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A9DA48-9177-49BE-AF21-8F9F7176FE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FF7149-B7AA-4C46-8BB7-3D53C3A90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4956D-C2D7-4AB0-BC5C-0E92089D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C3C1E-246A-4C29-A1F9-0B6DB887F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8D0301-E310-40A8-AC8A-C11F17D58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6D685D-620E-4AFF-9581-429F3CEE1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618C5-E5FF-4D45-B09D-AA74ABE1A7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FA0EC-C34B-496F-9C1A-E36951C7D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C9EA-6C4F-4F7B-AFCD-2A259E60F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84222-502F-4565-B31C-8CCE8E30CB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15C4D-FDE0-4053-9102-29D4B42B5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-360"/>
            <a:ext cx="8229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8073-78B7-4396-858E-2D533299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53D47-3A33-4315-B4E1-6E4A1747C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1B6E-0001-4C02-9973-BDE97952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5122-C6DB-4DA5-A2D5-2E42C040F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7A362-8521-411C-83BF-EEC4214819F2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6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Oval 6"/>
          <p:cNvSpPr/>
          <p:nvPr/>
        </p:nvSpPr>
        <p:spPr>
          <a:xfrm>
            <a:off x="845820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4" name="Oval 7"/>
          <p:cNvSpPr/>
          <p:nvPr/>
        </p:nvSpPr>
        <p:spPr>
          <a:xfrm>
            <a:off x="569880" y="649908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5" name="Oval 6"/>
          <p:cNvSpPr/>
          <p:nvPr/>
        </p:nvSpPr>
        <p:spPr>
          <a:xfrm>
            <a:off x="449568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6" name="Oval 7"/>
          <p:cNvSpPr/>
          <p:nvPr/>
        </p:nvSpPr>
        <p:spPr>
          <a:xfrm>
            <a:off x="469584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7" name="Oval 8"/>
          <p:cNvSpPr/>
          <p:nvPr/>
        </p:nvSpPr>
        <p:spPr>
          <a:xfrm>
            <a:off x="4297320" y="3924360"/>
            <a:ext cx="84240" cy="84240"/>
          </a:xfrm>
          <a:prstGeom prst="ellipse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2960" bIns="12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Palatino Linotype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7f7f7f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7f7f7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7f7f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362280" y="6356520"/>
            <a:ext cx="2086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4572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658440" y="6356520"/>
            <a:ext cx="2847960" cy="365040"/>
          </a:xfrm>
          <a:prstGeom prst="rect">
            <a:avLst/>
          </a:prstGeom>
          <a:noFill/>
          <a:ln w="0">
            <a:noFill/>
          </a:ln>
        </p:spPr>
        <p:txBody>
          <a:bodyPr lIns="4572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543520" y="6356520"/>
            <a:ext cx="561960" cy="365040"/>
          </a:xfrm>
          <a:prstGeom prst="rect">
            <a:avLst/>
          </a:prstGeom>
          <a:noFill/>
          <a:ln w="0">
            <a:noFill/>
          </a:ln>
        </p:spPr>
        <p:txBody>
          <a:bodyPr lIns="27360" rIns="4572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595959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FE4757-A8D5-41C3-9984-711EFD5A79E2}" type="slidenum">
              <a:rPr b="0" lang="ru-RU" sz="1200" spc="-1" strike="noStrike">
                <a:solidFill>
                  <a:srgbClr val="595959"/>
                </a:solidFill>
                <a:latin typeface="Century 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619280" y="1557360"/>
            <a:ext cx="5796000" cy="163368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c00000"/>
                </a:solidFill>
                <a:latin typeface="Palatino Linotype"/>
              </a:rPr>
              <a:t>Удивительные флексагоны</a:t>
            </a:r>
            <a:endParaRPr b="0" lang="en-US" sz="6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3131640" y="4365360"/>
            <a:ext cx="5712120" cy="14000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Выполнила: Осипова Диан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Кардава Екатерин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Ученицы 7 «а»класс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школы № 113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Palatino Linotype"/>
              </a:rPr>
              <a:t>Руководитель: учитель математики  Ковальчук Марина Александровна</a:t>
            </a:r>
            <a:endParaRPr b="0" lang="en-US" sz="20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468360" y="320760"/>
            <a:ext cx="8229600" cy="4525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Palatino Linotype"/>
              </a:rPr>
              <a:t>1956 год - статья Мартина Гарднера  «Математические игры» принесла флексагонам новую</a:t>
            </a:r>
            <a:endParaRPr b="0" lang="en-US" sz="4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4800" spc="-1" strike="noStrike">
                <a:solidFill>
                  <a:srgbClr val="000000"/>
                </a:solidFill>
                <a:latin typeface="Palatino Linotype"/>
              </a:rPr>
              <a:t>волну </a:t>
            </a:r>
            <a:endParaRPr b="0" lang="en-US" sz="4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Palatino Linotype"/>
              </a:rPr>
              <a:t>популярности</a:t>
            </a:r>
            <a:endParaRPr b="0" lang="en-US" sz="48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1" name="Picture 4" descr="http://www.lhup.edu/%7Edsimanek/make/gardner.gif"/>
          <p:cNvPicPr/>
          <p:nvPr/>
        </p:nvPicPr>
        <p:blipFill>
          <a:blip r:embed="rId1"/>
          <a:stretch/>
        </p:blipFill>
        <p:spPr>
          <a:xfrm>
            <a:off x="6307200" y="2886120"/>
            <a:ext cx="2838240" cy="397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395280" y="333360"/>
            <a:ext cx="8282160" cy="564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оверхности флексагона могут состоять из равносторонних или равнобедренных треугольников, квадратов, прямоугольников и т.д.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pic>
        <p:nvPicPr>
          <p:cNvPr id="113" name="Picture 8" descr="https://encrypted-tbn2.gstatic.com/images?q=tbn:ANd9GcTqS4apxoQwQP6J8GuW2yaN1o9RS_bXH1-AsrP4p5pO7rWim91b8A"/>
          <p:cNvPicPr/>
          <p:nvPr/>
        </p:nvPicPr>
        <p:blipFill>
          <a:blip r:embed="rId1"/>
          <a:stretch/>
        </p:blipFill>
        <p:spPr>
          <a:xfrm>
            <a:off x="25560" y="3192480"/>
            <a:ext cx="2962080" cy="235728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4" descr="C:\Users\Lenovo\Desktop\20160226_090746.jpg"/>
          <p:cNvPicPr/>
          <p:nvPr/>
        </p:nvPicPr>
        <p:blipFill>
          <a:blip r:embed="rId2"/>
          <a:stretch/>
        </p:blipFill>
        <p:spPr>
          <a:xfrm>
            <a:off x="2987640" y="3213000"/>
            <a:ext cx="3168720" cy="237672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5" descr="C:\Users\Lenovo\Desktop\20160226_090742.jpg"/>
          <p:cNvPicPr/>
          <p:nvPr/>
        </p:nvPicPr>
        <p:blipFill>
          <a:blip r:embed="rId3"/>
          <a:stretch/>
        </p:blipFill>
        <p:spPr>
          <a:xfrm>
            <a:off x="5940360" y="3173400"/>
            <a:ext cx="3203640" cy="24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147160" cy="836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Palatino Linotype"/>
              </a:rPr>
              <a:t>Виды флексагонов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179280" y="692280"/>
          <a:ext cx="8640720" cy="5823000"/>
        </p:xfrm>
        <a:graphic>
          <a:graphicData uri="http://schemas.openxmlformats.org/drawingml/2006/table">
            <a:tbl>
              <a:tblPr/>
              <a:tblGrid>
                <a:gridCol w="4314960"/>
                <a:gridCol w="4325760"/>
              </a:tblGrid>
              <a:tr h="579240">
                <a:tc>
                  <a:txBody>
                    <a:bodyPr lIns="73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Тетрафлексаго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7308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Гексафлексагон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73080" marR="73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041560">
                <a:tc>
                  <a:txBody>
                    <a:bodyPr lIns="73080" anchor="t">
                      <a:noAutofit/>
                    </a:bodyPr>
                    <a:p>
                      <a:pPr>
                        <a:buClr>
                          <a:srgbClr val="000000"/>
                        </a:buClr>
                        <a:buFont typeface="Palatino Linotype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В сложенном виде‒ прямоугольники или квадрат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7308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Palatino Linotype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В сложенном виде ‒ шестиугольник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73080" marR="73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54120">
                <a:tc>
                  <a:txBody>
                    <a:bodyPr lIns="7308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Palatino Linotype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Развертка состоит из квадрат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7308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Palatino Linotype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Развертка состоит из треугольнико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73080" marR="73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594880">
                <a:tc>
                  <a:txBody>
                    <a:bodyPr lIns="7308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Palatino Linotype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Сгибаются по вертикальным или горизонтальным прямым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buClr>
                          <a:srgbClr val="000000"/>
                        </a:buClr>
                        <a:buFont typeface="Palatino Linotype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73080" marR="9144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73080" rIns="73080" anchor="t">
                      <a:noAutofit/>
                    </a:bodyPr>
                    <a:p>
                      <a:pPr algn="ctr">
                        <a:buClr>
                          <a:srgbClr val="000000"/>
                        </a:buClr>
                        <a:buFont typeface="Palatino Linotype"/>
                        <a:buAutoNum type="arabicPeriod" startAt="2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Проворачиваются по прямым, обозначенным при их изготовлении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73080" marR="7308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Palatino Linotype"/>
              </a:rPr>
              <a:t>Виды гексафлексагонов и тетрафлексагонов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63360" y="1268280"/>
          <a:ext cx="9018720" cy="5069160"/>
        </p:xfrm>
        <a:graphic>
          <a:graphicData uri="http://schemas.openxmlformats.org/drawingml/2006/table">
            <a:tbl>
              <a:tblPr/>
              <a:tblGrid>
                <a:gridCol w="3924360"/>
                <a:gridCol w="3944880"/>
                <a:gridCol w="1149480"/>
              </a:tblGrid>
              <a:tr h="2224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Тетрафлексаго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Гексафлексагоны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Кол-ство поверхносте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Тритетрафлексаг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Тригексафлексаг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Тетратетрафлексаг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Тетрагексафлексаг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Пентагексафлексаг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Гексатетрафлексаг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Гексагексафлексагон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Palatino Linotype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Palatino Linotype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41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Palatino Linotype"/>
              </a:rPr>
              <a:t>Число поверхностей</a:t>
            </a: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356000" y="1628640"/>
            <a:ext cx="45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Гексафлексагоны могут иметь семь, девять, двенадцать, пятнадцать сорок восемь и т.д. плоскостей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0" y="1601280"/>
            <a:ext cx="46432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Тетрафлексагоны также можно сложить  с числом поверхностей  4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</a:t>
            </a: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 или 4</a:t>
            </a:r>
            <a:r>
              <a:rPr b="0" lang="en-US" sz="3200" spc="-1" strike="noStrike">
                <a:solidFill>
                  <a:srgbClr val="000000"/>
                </a:solidFill>
                <a:latin typeface="Century Gothic"/>
              </a:rPr>
              <a:t>n + 2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2997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Если нанести на треугольники более замысловатую раскраску, можно увидеть, что каждый из них может менять ориентацию внутри своей поверхности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4" name="Picture 2" descr="https://upload.wikimedia.org/wikipedia/commons/4/47/Hexahexaflexagon_-_all_sides_-_01.jpg"/>
          <p:cNvPicPr/>
          <p:nvPr/>
        </p:nvPicPr>
        <p:blipFill>
          <a:blip r:embed="rId1"/>
          <a:stretch/>
        </p:blipFill>
        <p:spPr>
          <a:xfrm>
            <a:off x="1476360" y="2990880"/>
            <a:ext cx="5870520" cy="386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68360" y="549360"/>
            <a:ext cx="8300880" cy="540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Флексагон может быть изготовлен из разных развёрток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Более того, даже одна и та же развёртка может допускать разные варианты сворачивания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Поверхности флексагонов появляются при его кручении по-разному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8600" y="188640"/>
            <a:ext cx="83628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Palatino Linotype"/>
              </a:rPr>
              <a:t>Складываем гексагексафлексагон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27" name="Объект 5" descr=""/>
          <p:cNvPicPr/>
          <p:nvPr/>
        </p:nvPicPr>
        <p:blipFill>
          <a:blip r:embed="rId1"/>
          <a:stretch/>
        </p:blipFill>
        <p:spPr>
          <a:xfrm>
            <a:off x="6588000" y="4724280"/>
            <a:ext cx="2273400" cy="2081160"/>
          </a:xfrm>
          <a:prstGeom prst="rect">
            <a:avLst/>
          </a:prstGeom>
          <a:ln w="0">
            <a:noFill/>
          </a:ln>
        </p:spPr>
      </p:pic>
      <p:pic>
        <p:nvPicPr>
          <p:cNvPr id="128" name="Объект 4" descr=""/>
          <p:cNvPicPr/>
          <p:nvPr/>
        </p:nvPicPr>
        <p:blipFill>
          <a:blip r:embed="rId2"/>
          <a:stretch/>
        </p:blipFill>
        <p:spPr>
          <a:xfrm>
            <a:off x="3995640" y="4665600"/>
            <a:ext cx="2444760" cy="2100240"/>
          </a:xfrm>
          <a:prstGeom prst="rect">
            <a:avLst/>
          </a:prstGeom>
          <a:ln w="0">
            <a:noFill/>
          </a:ln>
        </p:spPr>
      </p:pic>
      <p:pic>
        <p:nvPicPr>
          <p:cNvPr id="129" name="Объект 5" descr=""/>
          <p:cNvPicPr/>
          <p:nvPr/>
        </p:nvPicPr>
        <p:blipFill>
          <a:blip r:embed="rId3"/>
          <a:stretch/>
        </p:blipFill>
        <p:spPr>
          <a:xfrm>
            <a:off x="324000" y="4751280"/>
            <a:ext cx="3456000" cy="1943280"/>
          </a:xfrm>
          <a:prstGeom prst="rect">
            <a:avLst/>
          </a:prstGeom>
          <a:ln w="0">
            <a:noFill/>
          </a:ln>
        </p:spPr>
      </p:pic>
      <p:pic>
        <p:nvPicPr>
          <p:cNvPr id="130" name="Объект 8" descr=""/>
          <p:cNvPicPr/>
          <p:nvPr/>
        </p:nvPicPr>
        <p:blipFill>
          <a:blip r:embed="rId4"/>
          <a:stretch/>
        </p:blipFill>
        <p:spPr>
          <a:xfrm>
            <a:off x="7016760" y="2325600"/>
            <a:ext cx="1870200" cy="2117880"/>
          </a:xfrm>
          <a:prstGeom prst="rect">
            <a:avLst/>
          </a:prstGeom>
          <a:ln w="0">
            <a:noFill/>
          </a:ln>
        </p:spPr>
      </p:pic>
      <p:pic>
        <p:nvPicPr>
          <p:cNvPr id="131" name="Объект 3" descr=""/>
          <p:cNvPicPr/>
          <p:nvPr/>
        </p:nvPicPr>
        <p:blipFill>
          <a:blip r:embed="rId5"/>
          <a:stretch/>
        </p:blipFill>
        <p:spPr>
          <a:xfrm>
            <a:off x="2795760" y="2362320"/>
            <a:ext cx="2365200" cy="2087280"/>
          </a:xfrm>
          <a:prstGeom prst="rect">
            <a:avLst/>
          </a:prstGeom>
          <a:ln w="0">
            <a:noFill/>
          </a:ln>
        </p:spPr>
      </p:pic>
      <p:pic>
        <p:nvPicPr>
          <p:cNvPr id="132" name="Объект 7" descr=""/>
          <p:cNvPicPr/>
          <p:nvPr/>
        </p:nvPicPr>
        <p:blipFill>
          <a:blip r:embed="rId6"/>
          <a:stretch/>
        </p:blipFill>
        <p:spPr>
          <a:xfrm>
            <a:off x="5170320" y="2340000"/>
            <a:ext cx="1846440" cy="2089080"/>
          </a:xfrm>
          <a:prstGeom prst="rect">
            <a:avLst/>
          </a:prstGeom>
          <a:ln w="0">
            <a:noFill/>
          </a:ln>
        </p:spPr>
      </p:pic>
      <p:pic>
        <p:nvPicPr>
          <p:cNvPr id="133" name="Объект 3" descr=""/>
          <p:cNvPicPr/>
          <p:nvPr/>
        </p:nvPicPr>
        <p:blipFill>
          <a:blip r:embed="rId7"/>
          <a:stretch/>
        </p:blipFill>
        <p:spPr>
          <a:xfrm>
            <a:off x="52560" y="2362320"/>
            <a:ext cx="2706480" cy="20509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Объект 4" descr=""/>
          <p:cNvPicPr/>
          <p:nvPr/>
        </p:nvPicPr>
        <p:blipFill>
          <a:blip r:embed="rId1"/>
          <a:stretch/>
        </p:blipFill>
        <p:spPr>
          <a:xfrm>
            <a:off x="139680" y="2276640"/>
            <a:ext cx="4363920" cy="2900160"/>
          </a:xfrm>
          <a:prstGeom prst="rect">
            <a:avLst/>
          </a:prstGeom>
          <a:ln w="0">
            <a:noFill/>
          </a:ln>
        </p:spPr>
      </p:pic>
      <p:pic>
        <p:nvPicPr>
          <p:cNvPr id="135" name="Объект 5" descr=""/>
          <p:cNvPicPr/>
          <p:nvPr/>
        </p:nvPicPr>
        <p:blipFill>
          <a:blip r:embed="rId2"/>
          <a:stretch/>
        </p:blipFill>
        <p:spPr>
          <a:xfrm>
            <a:off x="4527720" y="2276640"/>
            <a:ext cx="4365360" cy="29001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640" y="765000"/>
            <a:ext cx="7416720" cy="1368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Palatino Linotype"/>
              </a:rPr>
              <a:t>Гексагексафлексагон готов</a:t>
            </a: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Palatino Linotype"/>
              </a:rPr>
              <a:t>Где используется флексагон?</a:t>
            </a: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pic>
        <p:nvPicPr>
          <p:cNvPr id="138" name="Объект 3" descr=""/>
          <p:cNvPicPr/>
          <p:nvPr/>
        </p:nvPicPr>
        <p:blipFill>
          <a:blip r:embed="rId1"/>
          <a:stretch/>
        </p:blipFill>
        <p:spPr>
          <a:xfrm>
            <a:off x="108000" y="2133720"/>
            <a:ext cx="2840040" cy="2840040"/>
          </a:xfrm>
          <a:prstGeom prst="rect">
            <a:avLst/>
          </a:prstGeom>
          <a:ln w="0">
            <a:noFill/>
          </a:ln>
        </p:spPr>
      </p:pic>
      <p:pic>
        <p:nvPicPr>
          <p:cNvPr id="139" name="Рисунок 4" descr=""/>
          <p:cNvPicPr/>
          <p:nvPr/>
        </p:nvPicPr>
        <p:blipFill>
          <a:blip r:embed="rId2"/>
          <a:stretch/>
        </p:blipFill>
        <p:spPr>
          <a:xfrm>
            <a:off x="6516720" y="2205000"/>
            <a:ext cx="2465280" cy="299736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6" descr=""/>
          <p:cNvPicPr/>
          <p:nvPr/>
        </p:nvPicPr>
        <p:blipFill>
          <a:blip r:embed="rId3"/>
          <a:stretch/>
        </p:blipFill>
        <p:spPr>
          <a:xfrm>
            <a:off x="2843280" y="3343320"/>
            <a:ext cx="3443400" cy="3097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95280" y="189000"/>
            <a:ext cx="8291520" cy="59371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Palatino Linotype"/>
              </a:rPr>
              <a:t>Актуальность:</a:t>
            </a:r>
            <a:r>
              <a:rPr b="0" lang="ru-RU" sz="2400" spc="-1" strike="noStrike">
                <a:solidFill>
                  <a:srgbClr val="c00000"/>
                </a:solidFill>
                <a:latin typeface="Palatino Linotyp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Решая нестандартные своеобразные задачи, люди испытывают радость приобщения к творческому мышлению, интуитивно ощущают красоту и величие математики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Palatino Linotype"/>
              </a:rPr>
              <a:t>Проблема: 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Флексагоны – с одной стороны - занимательная игра, а с другой – сложная структура, доказательство того, что существуют многоугольники, обладающие способностью изгибаться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-108000" y="-360"/>
            <a:ext cx="879480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Palatino Linotype"/>
              </a:rPr>
              <a:t>На уроках и внеурочной деятельности</a:t>
            </a:r>
            <a:endParaRPr b="0" lang="en-US" sz="32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179280" y="823680"/>
            <a:ext cx="850752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для развития памяти, внимания, их продуманная раскраска  поможет находить сходства и различия фигур, производить их классификацию.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entury Gothic"/>
              </a:rPr>
              <a:t>Нанеся на поверхности флексагона числа и выворачивая его, можно числа складывать, вычитать, умножать и делить, составлять и решать задачи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75920" y="85680"/>
            <a:ext cx="8218440" cy="620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Palatino Linotype"/>
              </a:rPr>
              <a:t>Выводы:</a:t>
            </a: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95280" y="692280"/>
            <a:ext cx="8291520" cy="5433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95000"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Palatino Linotype"/>
              </a:rPr>
              <a:t>-подтвердили выдвинутую гипотезу: флексагоны являются достаточно сложным математическим объектом, но они могут быть понятны и интересны для школьников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Palatino Linotype"/>
              </a:rPr>
              <a:t>-изучили много информации о флексагонах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Palatino Linotype"/>
              </a:rPr>
              <a:t>- узнали о применении флексагонов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920" y="155700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Palatino Linotype"/>
              </a:rPr>
              <a:t>Спасибо за внимание! </a:t>
            </a: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</p:spTree>
  </p:cSld>
  <p:transition spd="slow"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395280" y="260280"/>
            <a:ext cx="8291520" cy="58658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Библиография: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1. Гарднер М., Математические головоломки и развлечения, Москва, «Мир», 1999г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2. Панов А. Научно-популярный физико-математический журнал "Квант", номер 7, 1988г, с.10-14 3.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3. Шарыгин И.Ф. Ерганжиева Л.Н. Наглядная геометрия. 5-6 кл.: Пособие для общеобразоват. учебных заведений. – М.: Дрофа, 2015. 4.\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4. https://ru.wikipedia  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Palatino Linotype"/>
              </a:rPr>
              <a:t>5. http://planetaorigami.ru/2012/11/fleksagony/ 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468000" y="333000"/>
            <a:ext cx="8496360" cy="5759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Palatino Linotype"/>
              </a:rPr>
              <a:t>Объект исследования </a:t>
            </a:r>
            <a:r>
              <a:rPr b="0" lang="ru-RU" sz="3600" spc="-1" strike="noStrike">
                <a:solidFill>
                  <a:srgbClr val="000000"/>
                </a:solidFill>
                <a:latin typeface="Palatino Linotype"/>
              </a:rPr>
              <a:t>– фигуры, имеющие три и более поверхности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Palatino Linotype"/>
              </a:rPr>
              <a:t>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Palatino Linotype"/>
              </a:rPr>
              <a:t>Предмет исследования </a:t>
            </a:r>
            <a:r>
              <a:rPr b="0" lang="ru-RU" sz="3600" spc="-1" strike="noStrike">
                <a:solidFill>
                  <a:srgbClr val="000000"/>
                </a:solidFill>
                <a:latin typeface="Palatino Linotype"/>
              </a:rPr>
              <a:t>– тетрафлексагоны и гексафлексагоны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Palatino Linotype"/>
              </a:rPr>
              <a:t>Тема </a:t>
            </a:r>
            <a:r>
              <a:rPr b="0" lang="ru-RU" sz="3600" spc="-1" strike="noStrike">
                <a:solidFill>
                  <a:srgbClr val="000000"/>
                </a:solidFill>
                <a:latin typeface="Palatino Linotype"/>
              </a:rPr>
              <a:t>— Удивительный флексагон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Palatino Linotype"/>
              </a:rPr>
              <a:t>Гипотеза исследования: 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entury Gothic"/>
              </a:rPr>
              <a:t>Несмотря на то, что флексагоны являются достаточно сложным математическим объектом, они могут быть понятны и интересны для школьников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468000" y="333000"/>
            <a:ext cx="8218440" cy="579276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Palatino Linotype"/>
              </a:rPr>
              <a:t>Цель работы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- Изучить информацию о флексагонах, научиться складывать простейшие флексагоны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Palatino Linotype"/>
              </a:rPr>
              <a:t>   </a:t>
            </a:r>
            <a:r>
              <a:rPr b="0" lang="ru-RU" sz="3600" spc="-1" strike="noStrike">
                <a:solidFill>
                  <a:srgbClr val="c00000"/>
                </a:solidFill>
                <a:latin typeface="Palatino Linotype"/>
              </a:rPr>
              <a:t>Задачи: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изучить литературу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познакомиться с методикой изготовления 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научиться складывать самим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научить учащихся изготавливать простые флексагоны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Palatino Linotype"/>
              </a:rPr>
              <a:t>Методы исследования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– анализ литературы, практический эксперимент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Palatino Linotype"/>
              </a:rPr>
              <a:t>Продукт исследования</a:t>
            </a:r>
            <a:r>
              <a:rPr b="0" lang="ru-RU" sz="2800" spc="-1" strike="noStrike">
                <a:solidFill>
                  <a:srgbClr val="c00000"/>
                </a:solidFill>
                <a:latin typeface="Century Gothic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проведение занятия «Удивительные флексагоны» на уроке наглядной геометрии</a:t>
            </a: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00000"/>
                </a:solidFill>
                <a:latin typeface="Palatino Linotype"/>
              </a:rPr>
              <a:t>История создания флексагона</a:t>
            </a:r>
            <a:endParaRPr b="0" lang="en-US" sz="40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7280" y="764640"/>
            <a:ext cx="8569440" cy="554364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Первый флексагон был открыт в 1939 году английским студентом Артуром Стоуном, изучавшим тогда математику в Принстонском университете в США. Бумага формата 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letter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  была слишком широкой и не умещалась в скоросшиватель, предназначенный для бумаги формата A4. Стоун обрезал края бумаги и стал складывать из них различные фигуры, одна из которых и</a:t>
            </a:r>
            <a:r>
              <a:rPr b="0" lang="en-US" sz="3200" spc="-1" strike="noStrike">
                <a:solidFill>
                  <a:srgbClr val="000000"/>
                </a:solidFill>
                <a:latin typeface="Palatino Linotype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оказалась флексагоном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 marL="329040" indent="-3290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68000" y="115920"/>
            <a:ext cx="8218440" cy="9367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c00000"/>
                </a:solidFill>
                <a:latin typeface="Palatino Linotype"/>
              </a:rPr>
              <a:t>Что же такое флексагон</a:t>
            </a:r>
            <a:r>
              <a:rPr b="0" lang="en-US" sz="5400" spc="-1" strike="noStrike">
                <a:solidFill>
                  <a:srgbClr val="c00000"/>
                </a:solidFill>
                <a:latin typeface="Palatino Linotype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28440">
            <a:solidFill>
              <a:srgbClr val="ffffff"/>
            </a:solidFill>
            <a:miter/>
          </a:ln>
        </p:spPr>
        <p:txBody>
          <a:bodyPr anchor="t">
            <a:normAutofit fontScale="93000"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Palatino Linotype"/>
              </a:rPr>
              <a:t>Флексагоны (от англ. </a:t>
            </a:r>
            <a:r>
              <a:rPr b="0" lang="ru-RU" sz="3600" spc="-1" strike="noStrike">
                <a:solidFill>
                  <a:srgbClr val="c00000"/>
                </a:solidFill>
                <a:latin typeface="Palatino Linotype"/>
              </a:rPr>
              <a:t>to flex</a:t>
            </a:r>
            <a:r>
              <a:rPr b="0" lang="ru-RU" sz="3600" spc="-1" strike="noStrike">
                <a:solidFill>
                  <a:srgbClr val="000000"/>
                </a:solidFill>
                <a:latin typeface="Palatino Linotype"/>
              </a:rPr>
              <a:t>— </a:t>
            </a:r>
            <a:r>
              <a:rPr b="0" lang="ru-RU" sz="3600" spc="-1" strike="noStrike">
                <a:solidFill>
                  <a:srgbClr val="c00000"/>
                </a:solidFill>
                <a:latin typeface="Palatino Linotype"/>
              </a:rPr>
              <a:t>складываться, сгибаться, гнуться</a:t>
            </a:r>
            <a:r>
              <a:rPr b="0" lang="ru-RU" sz="3600" spc="-1" strike="noStrike">
                <a:solidFill>
                  <a:srgbClr val="000000"/>
                </a:solidFill>
                <a:latin typeface="Palatino Linotype"/>
              </a:rPr>
              <a:t>) — </a:t>
            </a:r>
            <a:br>
              <a:rPr sz="3600"/>
            </a:br>
            <a:r>
              <a:rPr b="0" lang="ru-RU" sz="3600" spc="-1" strike="noStrike">
                <a:solidFill>
                  <a:srgbClr val="000000"/>
                </a:solidFill>
                <a:latin typeface="Palatino Linotype"/>
              </a:rPr>
              <a:t>плоские  модели из полосок бумаги, обладающие способностью складываться и сгибаться . При складывании флексагона становятся видны поверхности, которые ранее были скрыты , а прежде видимые поверхности уходят внутрь</a:t>
            </a:r>
            <a:endParaRPr b="0" lang="en-US" sz="36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39640" y="4320"/>
            <a:ext cx="8229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ts val="58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Palatino Linotype"/>
              </a:rPr>
              <a:t>«Флексагонный комитет»</a:t>
            </a:r>
            <a:endParaRPr b="0" lang="en-US" sz="4800" spc="-1" strike="noStrike">
              <a:solidFill>
                <a:srgbClr val="000000"/>
              </a:solidFill>
              <a:latin typeface="Palatino Linotype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32400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entury Gothic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Для проникновени в тайны флексагонов был организован «Флексагонный комитет», в который входил Стоун и его три друга-учёных.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К 1940 году была разработана теория флексагонов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Palatino Linotype"/>
              </a:rPr>
              <a:t>Война помешала дальнейшим    исследованиям</a:t>
            </a:r>
            <a:endParaRPr b="0" lang="en-US" sz="3200" spc="-1" strike="noStrike">
              <a:solidFill>
                <a:srgbClr val="7f7f7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9-24T13:33:48Z</dcterms:created>
  <dc:creator>Admin</dc:creator>
  <dc:description/>
  <dc:language>en-US</dc:language>
  <cp:lastModifiedBy>1</cp:lastModifiedBy>
  <dcterms:modified xsi:type="dcterms:W3CDTF">2017-03-02T13:30:20Z</dcterms:modified>
  <cp:revision>65</cp:revision>
  <dc:subject/>
  <dc:title>Презентация PowerPoint</dc:title>
</cp:coreProperties>
</file>